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24.png" ContentType="image/png"/>
  <Override PartName="/ppt/media/image11.jpeg" ContentType="image/jpeg"/>
  <Override PartName="/ppt/media/image23.png" ContentType="image/png"/>
  <Override PartName="/ppt/media/image22.png" ContentType="image/png"/>
  <Override PartName="/ppt/media/image21.png" ContentType="image/png"/>
  <Override PartName="/ppt/media/image27.png" ContentType="image/png"/>
  <Override PartName="/ppt/media/image33.jpeg" ContentType="image/jpeg"/>
  <Override PartName="/ppt/media/image4.png" ContentType="image/png"/>
  <Override PartName="/ppt/media/image34.png" ContentType="image/png"/>
  <Override PartName="/ppt/media/image29.png" ContentType="image/png"/>
  <Override PartName="/ppt/media/image6.png" ContentType="image/png"/>
  <Override PartName="/ppt/media/image9.jpeg" ContentType="image/jpeg"/>
  <Override PartName="/ppt/media/image8.png" ContentType="image/png"/>
  <Override PartName="/ppt/media/image13.png" ContentType="image/png"/>
  <Override PartName="/ppt/media/image7.wmf" ContentType="image/x-wmf"/>
  <Override PartName="/ppt/media/image12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1.jpeg" ContentType="image/jpeg"/>
  <Override PartName="/ppt/media/image3.png" ContentType="image/png"/>
  <Override PartName="/ppt/media/image17.jpeg" ContentType="image/jpeg"/>
  <Override PartName="/ppt/media/image26.png" ContentType="image/png"/>
  <Override PartName="/ppt/media/image2.png" ContentType="image/png"/>
  <Override PartName="/ppt/media/image25.jpeg" ContentType="image/jpeg"/>
  <Override PartName="/ppt/media/image32.png" ContentType="image/png"/>
  <Override PartName="/ppt/media/image10.png" ContentType="image/png"/>
  <Override PartName="/ppt/media/image1.jpeg" ContentType="image/jpeg"/>
  <Override PartName="/ppt/media/image14.png" ContentType="image/png"/>
  <Override PartName="/ppt/media/image15.jpeg" ContentType="image/jpeg"/>
  <Override PartName="/ppt/media/image16.png" ContentType="image/png"/>
  <Override PartName="/ppt/media/image18.jpeg" ContentType="image/jpeg"/>
  <Override PartName="/ppt/media/image19.jpeg" ContentType="image/jpeg"/>
  <Override PartName="/ppt/media/image20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F4C0E-4E12-410C-98C7-A9F5C5DBE1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53E25-F77D-424F-BE0C-CA055A15800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719B5-BE2A-49A7-9754-252216F2AFB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B7398-CCE9-4D51-AE37-C717DBECF61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61938-9ECA-4000-AA4D-46D90996D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735E6-8379-48CB-B15A-13C130BC9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489496-E3F0-4D9E-B083-8331A70D5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544832-32A3-47F5-9694-F7AB6E7E2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36ABB5-422E-4F60-B6E2-215F3AC3A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1CA5D7-AD50-4CF0-96E7-90EDFE85A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30D80A-6F7A-4B78-A3EC-F44976E2D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37A8A1-89B7-43C6-90ED-F0D69C8EF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924F78-2982-44ED-AD81-E58B2DEDB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D8BD9E-A9CD-4FE0-B809-AE570FB8F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8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98787B-15E8-40C9-ABCC-34E677ED7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B66222-8601-43A2-BB03-E8B65AE44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52D1B-C60B-4780-A17B-62B561838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09042C-2969-4071-8189-8A955ACF7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9300B7-F999-4B53-81B8-15B871212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31BC95-6AA8-4C70-AD3B-48ED63FCD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961F6C-6E8F-4F6E-9457-3C8F4341A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8722F6-7DD8-48F8-BF02-E32E8E01A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F3E42B-D85E-4D1D-A50C-0E0D76705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D507A1-BFC8-4DF9-A3E5-BF62F0E3E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02B1A8-D993-44EE-8CD1-8245267B0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1A0FBB-EE69-4BF7-A863-9A11E56DF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BA705A-6DBA-4712-B4AF-6E1F57FE5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DB5BD-1047-4AA3-97C9-6D01DC0F0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537D50-B7CA-40C4-A416-22A834024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4D2C3A-B086-4D0C-BF57-B253162BC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25830B-154F-4930-A75C-6079FD54F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371D7A-5104-41C1-AD3B-A6B965341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308253-1786-4CA0-9FB4-095F4C3E8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9BA9AA-30B3-474A-A1B3-EF0119F07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26D749-2A35-4EFD-81BE-40435D9BD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DF4FAE-802E-4E90-840C-E5E3F63DA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C5A51D-C3A8-4FE5-A624-5541D0032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D4177A-9B34-437D-A70F-0E211F7D8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AA959-5279-4DC4-AF44-1669EF0DB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33E8BB-375B-4507-8D76-ADA5540FA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5A20EE-D7DA-41BC-A79E-10D836EB5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7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7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B84C51-1558-4889-94C7-FF9732651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9C8374-0A0A-4DD4-BE56-54C17E1CD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E6ADC9-FC7C-4567-8AB4-CE03BCBFE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6E82FA-81F0-4421-9405-2ABFD83B7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071699-EC69-4003-8763-109904E57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F3A2F0-5981-4B88-8A0A-83B72773C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BB077F-584A-4201-8CD7-177144E27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12BD45-1DDF-4AFE-92C5-1CBE18674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A8FBE-D700-4005-AF51-AC5D05086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0B6453-9C8F-4B00-B0F1-231EB060D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0CAFB6-B408-40CA-822E-D1AE25796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33B04F-C4C2-4FEB-985D-F71B1250C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D519BE-D902-47CC-BF18-A705EC934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91E073-8F19-41B1-8422-280E28143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53066-2BD0-4289-B968-13BEB5A26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46350-6DEB-4F1A-9EFF-B34882A58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89D13-6E9A-43C5-A6EB-DF4AB4C00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70EF5-7E5B-47CD-B4D0-640A6A7E1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D5B63-8655-4801-8181-1825B8EC3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282D7-4E63-4A98-81BF-7269AD983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3B8C8-EC7B-4668-8339-7617CC2A8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8E62F-8B12-4DBE-AB6A-CA05AFF27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0CC87-CE80-4A24-AFF1-5BB99FC7A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18059-1A61-410F-9A9C-8F015E0E9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46B85-B87C-4F5C-BBAB-83FB7FAA0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BC8EB3-01EE-4B12-A241-E1461359B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580546-C7D0-4423-AEC0-417578F53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73EA7F-6F37-4F5A-B3D5-C69F3EEF7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44A8E9-FB09-40FA-8859-B3704601E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89E47A-83F2-42AD-9129-824046010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D41BC-3874-4873-B3FA-45E194502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0D2422-05BB-462E-8EA0-5083BF147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C97433-6F6A-429E-A890-A210386F7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B4AC44-3392-4F04-A8D7-27BC4E11A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C95F2A-74B3-430E-BAC2-2F4B56257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21E72A-45D5-45F9-B374-6C8876E92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2E8802-8542-43F4-8FD3-F7D5C4BAD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A6B319-09AF-47E4-82F6-8D5E15E05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E62D21-39C5-4B57-BFA7-24AC87B9F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646660-9F5C-4434-AAC0-2B545740E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F5CC97-037A-4ADF-9E40-BB8B52449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5A2AD-5A01-40E8-BBF8-8CD794F42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29F416-8299-483D-8E5F-9A0CB1731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0FAF7D-45CC-4E44-8759-67E804AED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19D9C4-058C-44A3-BC44-1B8C46A2F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D21D0A-B99B-4C87-9997-1FEB7ECF7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FC75A9-D83C-4A26-84DE-24A8AE488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9ADD11-795F-484B-9B3E-C6472C832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09762C-85B1-4419-BBEB-F5F6ED16C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41211B-0E6A-4463-AB4E-7C5B56B5A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BCEFD8-FF14-40C6-ABBB-54A66D3E3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31DCCC-5B00-481C-9CCC-EEAABC883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AF8B4-61C4-4A87-ABF4-5F5143462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4336ED-DA1A-4D43-A61F-9042120CC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852AE4-CFD5-41A2-B80B-112F87A02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381854-44BC-48C6-89C6-6C324A91C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D80433-2390-44FC-A933-728A3EA69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CDC3CA-D636-4126-88E3-820FB14E8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4805C6-BF43-45B4-B152-CF6CA1C78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2C705E-A919-4D4E-9B78-84EF3786A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3A3E87-FA33-49F7-AA31-700656B07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31654D-706A-42DB-B9FD-A9BC204AF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827F02-AC6B-4496-B66D-99E74EA59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F0A02-17AD-43B4-9560-CE66F952C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510221-C8A9-4E7F-A717-E86186C87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E55442-7720-4C49-BD0C-F14A23451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52EF30-B4CF-49CB-971E-DCFE6D608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F1E9A0-0317-4A6D-9782-6F417393E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EE54B5-98E3-497B-92BC-3EDF849D5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E0AD78-44FB-4D65-B6B1-F7F01A3CD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D143AA-12A3-4A95-A318-371852704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21F0BF-9187-4609-B315-C9AFF8639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E3FF5E-F727-46FC-97B9-DC693ED62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F3EACC-493D-4378-BF35-14F678BB6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ADAD6-E3D6-4CDE-A80D-5331C6325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36FB58-8135-40A5-9583-B947F99BD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75E05D-0125-4808-8562-288B1F206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538262-32B0-4B5A-9A3F-876B02BBE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44ACAE-1EC9-47E2-BE30-8B79114E1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9549EB-2162-4BE0-8B21-61BF033AF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7A2BC3-1426-4880-863D-615431F28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AFDC69-ABC0-4432-B0DA-864A4F976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5CC9F4-88FA-4522-9B5D-792DD3559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14DDF4-4BD6-4AF2-BD3A-629821C38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2991DA-0B64-460F-95C5-0F5CF8807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D2A9A-BAAE-4B7E-B080-C7D787C47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0B3E4C-E3A7-4F10-AF5A-E0927FA04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A055BF-6B87-42A8-B99E-F01521D13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E0F614-642E-4336-97EB-D09D5D73B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CD18E4-394A-4408-9668-68F61AAD5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FEFABA-E632-4DB8-B326-FD3DEA3EC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AD46C3-FDFE-4B7D-B3F3-28E757881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A4EFC3-0866-4E8F-8DFB-F4916C578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5E589B-11F9-4E90-80D8-8DB80C18D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0D3F7F-BF4E-42BC-88B4-648E5282E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B861FD-0431-4563-B0CB-962965FFB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B5E5D-058B-45F0-B0DF-35A8ACA87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F1800E-5437-4234-8061-08B860FEF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A4F542-53D5-4945-B1E4-8EDF82F42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AA2285-4B32-4750-A2B9-75353F254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918F02-2042-4038-9DBC-034FA7342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B396B7-212D-4AEC-9236-2BACFBD39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CE29DB-E454-4CBF-ADB4-7304921A9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9E0024-6276-48CD-92A6-F2B4D4ED8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24C664-015E-4BE0-BDBF-06DF918D4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ECF88D-43F0-4758-97BF-7CE4037F8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144674-22C0-455E-BC42-A15149EED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FEC96-C79C-41CC-B287-897CE9E526D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Freeform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Freeform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87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88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390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91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8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9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30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E9D1A-BCDD-43B7-89BD-952483B77F5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 type="dt" idx="3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 type="ftr" idx="3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 type="sldNum" idx="3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ACAA2-33EF-4A32-8E3D-26FD924004A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dt" idx="3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ftr" idx="3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sldNum" idx="3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EF48E-FE65-4DC8-94E5-D9C7EBAB7AD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3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4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D9B8C-995C-4F93-988A-A411A1150EE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5BE24-22A8-4CC8-AF3A-81E241F5ED4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8C34D-2A8B-4674-B875-C7B064C708C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E9D36-D57F-4D1D-938F-3D5AFEFDC39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F5F0A-F660-41C8-AF61-31CD02A88CB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C0DDD-CE4B-44BB-9921-05C1089CF36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24074-1D56-47EF-8D35-326B40F3ABC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 type="dt" idx="25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 type="ftr" idx="26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 type="sldNum" idx="27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9D12B-C7D2-4A15-B34B-17E5E64591E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29.pn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49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27.pn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Rectangle 1" descr=""/>
          <p:cNvPicPr/>
          <p:nvPr/>
        </p:nvPicPr>
        <p:blipFill>
          <a:blip r:embed="rId1"/>
          <a:stretch/>
        </p:blipFill>
        <p:spPr>
          <a:xfrm>
            <a:off x="1322280" y="792000"/>
            <a:ext cx="6389640" cy="197496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4" descr="C:\Documents and Settings\sramsey\Local Settings\Temporary Internet Files\Content.IE5\726PDIT4\MC900441846[1].wmf"/>
          <p:cNvPicPr/>
          <p:nvPr/>
        </p:nvPicPr>
        <p:blipFill>
          <a:blip r:embed="rId2"/>
          <a:stretch/>
        </p:blipFill>
        <p:spPr>
          <a:xfrm>
            <a:off x="3429000" y="3200400"/>
            <a:ext cx="2417760" cy="2828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4d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4" name="Title 3" descr=""/>
          <p:cNvPicPr/>
          <p:nvPr/>
        </p:nvPicPr>
        <p:blipFill>
          <a:blip r:embed="rId1"/>
          <a:stretch/>
        </p:blipFill>
        <p:spPr>
          <a:xfrm>
            <a:off x="225360" y="-158760"/>
            <a:ext cx="8632800" cy="1585800"/>
          </a:xfrm>
          <a:prstGeom prst="rect">
            <a:avLst/>
          </a:prstGeom>
          <a:ln w="0">
            <a:noFill/>
          </a:ln>
        </p:spPr>
      </p:pic>
      <p:sp>
        <p:nvSpPr>
          <p:cNvPr id="555" name="TextBox 6"/>
          <p:cNvSpPr/>
          <p:nvPr/>
        </p:nvSpPr>
        <p:spPr>
          <a:xfrm>
            <a:off x="6781680" y="35053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asis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56" name="Picture 5" descr="C:\Documents and Settings\ISLPT175\My Documents\My Pictures\oasis.bmp"/>
          <p:cNvPicPr/>
          <p:nvPr/>
        </p:nvPicPr>
        <p:blipFill>
          <a:blip r:embed="rId2"/>
          <a:stretch/>
        </p:blipFill>
        <p:spPr>
          <a:xfrm>
            <a:off x="822240" y="2743200"/>
            <a:ext cx="423720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1057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7" name="Title 3" descr=""/>
          <p:cNvPicPr/>
          <p:nvPr/>
        </p:nvPicPr>
        <p:blipFill>
          <a:blip r:embed="rId1"/>
          <a:stretch/>
        </p:blipFill>
        <p:spPr>
          <a:xfrm>
            <a:off x="225360" y="-158760"/>
            <a:ext cx="8467920" cy="1585800"/>
          </a:xfrm>
          <a:prstGeom prst="rect">
            <a:avLst/>
          </a:prstGeom>
          <a:ln w="0">
            <a:noFill/>
          </a:ln>
        </p:spPr>
      </p:pic>
      <p:sp>
        <p:nvSpPr>
          <p:cNvPr id="558" name="TextBox 6"/>
          <p:cNvSpPr/>
          <p:nvPr/>
        </p:nvSpPr>
        <p:spPr>
          <a:xfrm>
            <a:off x="6781680" y="3505320"/>
            <a:ext cx="213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untain Ran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59" name="Picture 5" descr="C:\Documents and Settings\ISLPT175\My Documents\My Pictures\mountain range.bmp"/>
          <p:cNvPicPr/>
          <p:nvPr/>
        </p:nvPicPr>
        <p:blipFill>
          <a:blip r:embed="rId2"/>
          <a:stretch/>
        </p:blipFill>
        <p:spPr>
          <a:xfrm>
            <a:off x="457200" y="1523880"/>
            <a:ext cx="5824440" cy="43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100000">
              <a:srgbClr val="f8b04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"/>
          <p:cNvSpPr txBox="1"/>
          <p:nvPr/>
        </p:nvSpPr>
        <p:spPr>
          <a:xfrm>
            <a:off x="151920" y="685800"/>
            <a:ext cx="89917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Sans Unicode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Lucida Sans Unicode"/>
              </a:rPr>
              <a:t>What is the difference between a  PLAIN and a MOUNTAIN RANGE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561" name="Title 1" descr=""/>
          <p:cNvPicPr/>
          <p:nvPr/>
        </p:nvPicPr>
        <p:blipFill>
          <a:blip r:embed="rId1"/>
          <a:stretch/>
        </p:blipFill>
        <p:spPr>
          <a:xfrm>
            <a:off x="420840" y="-109440"/>
            <a:ext cx="8046720" cy="877680"/>
          </a:xfrm>
          <a:prstGeom prst="rect">
            <a:avLst/>
          </a:prstGeom>
          <a:ln w="0">
            <a:noFill/>
          </a:ln>
        </p:spPr>
      </p:pic>
      <p:sp>
        <p:nvSpPr>
          <p:cNvPr id="562" name="TextBox 10"/>
          <p:cNvSpPr/>
          <p:nvPr/>
        </p:nvSpPr>
        <p:spPr>
          <a:xfrm>
            <a:off x="304920" y="2133720"/>
            <a:ext cx="12189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plain  is flat land, but a mountain range is bumpy.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3" name="TextBox 12"/>
          <p:cNvSpPr/>
          <p:nvPr/>
        </p:nvSpPr>
        <p:spPr>
          <a:xfrm>
            <a:off x="1905120" y="4648320"/>
            <a:ext cx="723888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64" name="Picture 11" descr="C:\Documents and Settings\ISLPT175\My Documents\My Pictures\mountain range.bmp"/>
          <p:cNvPicPr/>
          <p:nvPr/>
        </p:nvPicPr>
        <p:blipFill>
          <a:blip r:embed="rId2"/>
          <a:stretch/>
        </p:blipFill>
        <p:spPr>
          <a:xfrm>
            <a:off x="1752480" y="3809880"/>
            <a:ext cx="2467080" cy="1847880"/>
          </a:xfrm>
          <a:prstGeom prst="rect">
            <a:avLst/>
          </a:prstGeom>
          <a:ln w="0">
            <a:noFill/>
          </a:ln>
        </p:spPr>
      </p:pic>
      <p:cxnSp>
        <p:nvCxnSpPr>
          <p:cNvPr id="565" name="Straight Arrow Connector 14"/>
          <p:cNvCxnSpPr/>
          <p:nvPr/>
        </p:nvCxnSpPr>
        <p:spPr>
          <a:xfrm>
            <a:off x="4266720" y="4191120"/>
            <a:ext cx="2210760" cy="2160"/>
          </a:xfrm>
          <a:prstGeom prst="straightConnector1">
            <a:avLst/>
          </a:prstGeom>
          <a:ln w="9360">
            <a:solidFill>
              <a:srgbClr val="2da2bf"/>
            </a:solidFill>
            <a:miter/>
            <a:headEnd len="med" type="arrow" w="med"/>
            <a:tailEnd len="med" type="arrow" w="med"/>
          </a:ln>
        </p:spPr>
      </p:cxnSp>
      <p:pic>
        <p:nvPicPr>
          <p:cNvPr id="566" name="Picture 12" descr="C:\Documents and Settings\ISLPT175\My Documents\My Pictures\14443092.jpg"/>
          <p:cNvPicPr/>
          <p:nvPr/>
        </p:nvPicPr>
        <p:blipFill>
          <a:blip r:embed="rId3"/>
          <a:stretch/>
        </p:blipFill>
        <p:spPr>
          <a:xfrm>
            <a:off x="5881680" y="3657600"/>
            <a:ext cx="2805120" cy="1868400"/>
          </a:xfrm>
          <a:prstGeom prst="rect">
            <a:avLst/>
          </a:prstGeom>
          <a:ln w="0">
            <a:noFill/>
          </a:ln>
        </p:spPr>
      </p:pic>
      <p:cxnSp>
        <p:nvCxnSpPr>
          <p:cNvPr id="567" name="Straight Arrow Connector 18"/>
          <p:cNvCxnSpPr/>
          <p:nvPr/>
        </p:nvCxnSpPr>
        <p:spPr>
          <a:xfrm flipV="1">
            <a:off x="4267080" y="4876200"/>
            <a:ext cx="1524960" cy="76680"/>
          </a:xfrm>
          <a:prstGeom prst="straightConnector1">
            <a:avLst/>
          </a:prstGeom>
          <a:ln w="9360">
            <a:solidFill>
              <a:srgbClr val="2da2bf"/>
            </a:solidFill>
            <a:miter/>
            <a:headEnd len="med" type="arrow" w="med"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99ff"/>
            </a:gs>
            <a:gs pos="100000">
              <a:srgbClr val="00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"/>
          <p:cNvSpPr txBox="1"/>
          <p:nvPr/>
        </p:nvSpPr>
        <p:spPr>
          <a:xfrm>
            <a:off x="-360" y="1066680"/>
            <a:ext cx="89917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Sans Unicode"/>
              </a:rPr>
              <a:t>What is the difference between  a   plateau , Mesa, Butte …?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569" name="Title 1" descr=""/>
          <p:cNvPicPr/>
          <p:nvPr/>
        </p:nvPicPr>
        <p:blipFill>
          <a:blip r:embed="rId1"/>
          <a:stretch/>
        </p:blipFill>
        <p:spPr>
          <a:xfrm>
            <a:off x="420840" y="-109440"/>
            <a:ext cx="8046720" cy="877680"/>
          </a:xfrm>
          <a:prstGeom prst="rect">
            <a:avLst/>
          </a:prstGeom>
          <a:ln w="0">
            <a:noFill/>
          </a:ln>
        </p:spPr>
      </p:pic>
      <p:sp>
        <p:nvSpPr>
          <p:cNvPr id="570" name="TextBox 9"/>
          <p:cNvSpPr/>
          <p:nvPr/>
        </p:nvSpPr>
        <p:spPr>
          <a:xfrm>
            <a:off x="838080" y="2590920"/>
            <a:ext cx="7239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Plateau is bigger Than A Mesa AND  a Mesa is bigger than a Butte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71" name="Picture 5" descr="C:\Documents and Settings\ISLPT175\My Documents\My Pictures\plateau.bmp"/>
          <p:cNvPicPr/>
          <p:nvPr/>
        </p:nvPicPr>
        <p:blipFill>
          <a:blip r:embed="rId2"/>
          <a:stretch/>
        </p:blipFill>
        <p:spPr>
          <a:xfrm>
            <a:off x="3048120" y="3683160"/>
            <a:ext cx="3657600" cy="262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dcebf5"/>
            </a:gs>
            <a:gs pos="100000">
              <a:srgbClr val="55261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"/>
          <p:cNvSpPr txBox="1"/>
          <p:nvPr/>
        </p:nvSpPr>
        <p:spPr>
          <a:xfrm>
            <a:off x="-360" y="1066680"/>
            <a:ext cx="89917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Sans Unicode"/>
              </a:rPr>
              <a:t>What is the Difference Between a DESSERT and a OASIS . 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573" name="Title 1" descr=""/>
          <p:cNvPicPr/>
          <p:nvPr/>
        </p:nvPicPr>
        <p:blipFill>
          <a:blip r:embed="rId1"/>
          <a:stretch/>
        </p:blipFill>
        <p:spPr>
          <a:xfrm>
            <a:off x="420840" y="-109440"/>
            <a:ext cx="8046720" cy="877680"/>
          </a:xfrm>
          <a:prstGeom prst="rect">
            <a:avLst/>
          </a:prstGeom>
          <a:ln w="0">
            <a:noFill/>
          </a:ln>
        </p:spPr>
      </p:pic>
      <p:sp>
        <p:nvSpPr>
          <p:cNvPr id="574" name="TextBox 3"/>
          <p:cNvSpPr/>
          <p:nvPr/>
        </p:nvSpPr>
        <p:spPr>
          <a:xfrm>
            <a:off x="838080" y="2590920"/>
            <a:ext cx="7239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Oasis is a place In  the dessert were its fertile and has water  A dessert  is dry…….&lt;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75" name="Picture 5" descr="C:\Documents and Settings\ISLPT175\My Documents\My Pictures\oasis.bmp"/>
          <p:cNvPicPr/>
          <p:nvPr/>
        </p:nvPicPr>
        <p:blipFill>
          <a:blip r:embed="rId2"/>
          <a:stretch/>
        </p:blipFill>
        <p:spPr>
          <a:xfrm>
            <a:off x="152280" y="4038480"/>
            <a:ext cx="2619360" cy="1743120"/>
          </a:xfrm>
          <a:prstGeom prst="rect">
            <a:avLst/>
          </a:prstGeom>
          <a:ln w="0">
            <a:noFill/>
          </a:ln>
        </p:spPr>
      </p:pic>
      <p:pic>
        <p:nvPicPr>
          <p:cNvPr id="576" name="Picture 6" descr="C:\Documents and Settings\ISLPT175\My Documents\My Pictures\dessert.jpg"/>
          <p:cNvPicPr/>
          <p:nvPr/>
        </p:nvPicPr>
        <p:blipFill>
          <a:blip r:embed="rId3"/>
          <a:stretch/>
        </p:blipFill>
        <p:spPr>
          <a:xfrm>
            <a:off x="5715000" y="3581280"/>
            <a:ext cx="2590920" cy="26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5" name="Title 3" descr=""/>
          <p:cNvPicPr/>
          <p:nvPr/>
        </p:nvPicPr>
        <p:blipFill>
          <a:blip r:embed="rId1"/>
          <a:stretch/>
        </p:blipFill>
        <p:spPr>
          <a:xfrm>
            <a:off x="682560" y="96840"/>
            <a:ext cx="8010720" cy="1585800"/>
          </a:xfrm>
          <a:prstGeom prst="rect">
            <a:avLst/>
          </a:prstGeom>
          <a:ln w="0">
            <a:noFill/>
          </a:ln>
        </p:spPr>
      </p:pic>
      <p:sp>
        <p:nvSpPr>
          <p:cNvPr id="526" name="TextBox 6"/>
          <p:cNvSpPr/>
          <p:nvPr/>
        </p:nvSpPr>
        <p:spPr>
          <a:xfrm>
            <a:off x="6629400" y="37339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" name="TextBox 9"/>
          <p:cNvSpPr/>
          <p:nvPr/>
        </p:nvSpPr>
        <p:spPr>
          <a:xfrm>
            <a:off x="6400800" y="160020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ef5fa"/>
                </a:solidFill>
                <a:latin typeface="Times New Roman"/>
              </a:rPr>
              <a:t>Plai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28" name="Picture 5" descr="C:\Documents and Settings\ISLPT175\My Documents\My Pictures\14443092.jpg"/>
          <p:cNvPicPr/>
          <p:nvPr/>
        </p:nvPicPr>
        <p:blipFill>
          <a:blip r:embed="rId2"/>
          <a:stretch/>
        </p:blipFill>
        <p:spPr>
          <a:xfrm>
            <a:off x="762120" y="2289240"/>
            <a:ext cx="6476760" cy="43146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9" name="Title 3" descr=""/>
          <p:cNvPicPr/>
          <p:nvPr/>
        </p:nvPicPr>
        <p:blipFill>
          <a:blip r:embed="rId1"/>
          <a:stretch/>
        </p:blipFill>
        <p:spPr>
          <a:xfrm>
            <a:off x="530280" y="353880"/>
            <a:ext cx="8010360" cy="1908360"/>
          </a:xfrm>
          <a:prstGeom prst="rect">
            <a:avLst/>
          </a:prstGeom>
          <a:ln w="0">
            <a:noFill/>
          </a:ln>
        </p:spPr>
      </p:pic>
      <p:sp>
        <p:nvSpPr>
          <p:cNvPr id="530" name="TextBox 6"/>
          <p:cNvSpPr/>
          <p:nvPr/>
        </p:nvSpPr>
        <p:spPr>
          <a:xfrm>
            <a:off x="6095880" y="35812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ap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31" name="Picture 5" descr="C:\Documents and Settings\ISLPT175\My Documents\My Pictures\pic_721.jpg"/>
          <p:cNvPicPr/>
          <p:nvPr/>
        </p:nvPicPr>
        <p:blipFill>
          <a:blip r:embed="rId2"/>
          <a:stretch/>
        </p:blipFill>
        <p:spPr>
          <a:xfrm>
            <a:off x="838080" y="2971800"/>
            <a:ext cx="3992760" cy="31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2" name="Title 3" descr=""/>
          <p:cNvPicPr/>
          <p:nvPr/>
        </p:nvPicPr>
        <p:blipFill>
          <a:blip r:embed="rId1"/>
          <a:stretch/>
        </p:blipFill>
        <p:spPr>
          <a:xfrm>
            <a:off x="225360" y="-158760"/>
            <a:ext cx="8467920" cy="1585800"/>
          </a:xfrm>
          <a:prstGeom prst="rect">
            <a:avLst/>
          </a:prstGeom>
          <a:ln w="0">
            <a:noFill/>
          </a:ln>
        </p:spPr>
      </p:pic>
      <p:sp>
        <p:nvSpPr>
          <p:cNvPr id="533" name="TextBox 6"/>
          <p:cNvSpPr/>
          <p:nvPr/>
        </p:nvSpPr>
        <p:spPr>
          <a:xfrm>
            <a:off x="6781680" y="35053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ur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34" name="Picture 5" descr="C:\Documents and Settings\ISLPT175\My Documents\My Pictures\source.bmp"/>
          <p:cNvPicPr/>
          <p:nvPr/>
        </p:nvPicPr>
        <p:blipFill>
          <a:blip r:embed="rId2"/>
          <a:stretch/>
        </p:blipFill>
        <p:spPr>
          <a:xfrm>
            <a:off x="228600" y="2362320"/>
            <a:ext cx="6248520" cy="382104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5" name="Title 3" descr=""/>
          <p:cNvPicPr/>
          <p:nvPr/>
        </p:nvPicPr>
        <p:blipFill>
          <a:blip r:embed="rId1"/>
          <a:stretch/>
        </p:blipFill>
        <p:spPr>
          <a:xfrm>
            <a:off x="298440" y="-182520"/>
            <a:ext cx="8656560" cy="1908000"/>
          </a:xfrm>
          <a:prstGeom prst="rect">
            <a:avLst/>
          </a:prstGeom>
          <a:ln w="0">
            <a:noFill/>
          </a:ln>
        </p:spPr>
      </p:pic>
      <p:sp>
        <p:nvSpPr>
          <p:cNvPr id="536" name="TextBox 6"/>
          <p:cNvSpPr/>
          <p:nvPr/>
        </p:nvSpPr>
        <p:spPr>
          <a:xfrm>
            <a:off x="6705720" y="34290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olcan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37" name="Picture 5" descr="C:\Documents and Settings\ISLPT175\My Documents\My Pictures\volcano.jpg"/>
          <p:cNvPicPr/>
          <p:nvPr/>
        </p:nvPicPr>
        <p:blipFill>
          <a:blip r:embed="rId2"/>
          <a:stretch/>
        </p:blipFill>
        <p:spPr>
          <a:xfrm>
            <a:off x="457200" y="1600200"/>
            <a:ext cx="3981600" cy="37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a1f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"/>
          <p:cNvSpPr txBox="1"/>
          <p:nvPr/>
        </p:nvSpPr>
        <p:spPr>
          <a:xfrm>
            <a:off x="914040" y="2286000"/>
            <a:ext cx="4419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Sans Unicode"/>
              </a:rPr>
              <a:t>Paste image </a:t>
            </a:r>
            <a:r>
              <a:rPr b="0" lang="en-US" sz="2800" spc="-1" strike="noStrike">
                <a:solidFill>
                  <a:srgbClr val="002060"/>
                </a:solidFill>
                <a:latin typeface="Lucida Sans Unicode"/>
              </a:rPr>
              <a:t>here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539" name="Title 3" descr=""/>
          <p:cNvPicPr/>
          <p:nvPr/>
        </p:nvPicPr>
        <p:blipFill>
          <a:blip r:embed="rId1"/>
          <a:stretch/>
        </p:blipFill>
        <p:spPr>
          <a:xfrm>
            <a:off x="225360" y="-158760"/>
            <a:ext cx="8467920" cy="1908360"/>
          </a:xfrm>
          <a:prstGeom prst="rect">
            <a:avLst/>
          </a:prstGeom>
          <a:ln w="0">
            <a:noFill/>
          </a:ln>
        </p:spPr>
      </p:pic>
      <p:sp>
        <p:nvSpPr>
          <p:cNvPr id="540" name="TextBox 6"/>
          <p:cNvSpPr/>
          <p:nvPr/>
        </p:nvSpPr>
        <p:spPr>
          <a:xfrm>
            <a:off x="6781680" y="35053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lateau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1" name="Trapezoid 5"/>
          <p:cNvSpPr/>
          <p:nvPr/>
        </p:nvSpPr>
        <p:spPr>
          <a:xfrm>
            <a:off x="0" y="2819520"/>
            <a:ext cx="3505320" cy="3886200"/>
          </a:xfrm>
          <a:prstGeom prst="pie">
            <a:avLst/>
          </a:prstGeom>
          <a:blipFill rotWithShape="0">
            <a:blip r:embed="rId2"/>
            <a:srcRect/>
            <a:tile tx="0" ty="0" sx="100000" sy="100000" algn="ctr"/>
          </a:blip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2" name="Trapezoid 7"/>
          <p:cNvSpPr/>
          <p:nvPr/>
        </p:nvSpPr>
        <p:spPr>
          <a:xfrm>
            <a:off x="3429000" y="3352680"/>
            <a:ext cx="2819520" cy="3200400"/>
          </a:xfrm>
          <a:prstGeom prst="pie">
            <a:avLst/>
          </a:prstGeom>
          <a:blipFill rotWithShape="0">
            <a:blip r:embed="rId3"/>
            <a:srcRect/>
            <a:tile tx="0" ty="0" sx="100000" sy="100000" algn="ctr"/>
          </a:blip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3" name="Trapezoid 8"/>
          <p:cNvSpPr/>
          <p:nvPr/>
        </p:nvSpPr>
        <p:spPr>
          <a:xfrm>
            <a:off x="6477120" y="4648320"/>
            <a:ext cx="2514600" cy="1981080"/>
          </a:xfrm>
          <a:prstGeom prst="pie">
            <a:avLst/>
          </a:prstGeom>
          <a:blipFill rotWithShape="0">
            <a:blip r:embed="rId4"/>
            <a:srcRect/>
            <a:tile tx="0" ty="0" sx="100000" sy="100000" algn="ctr"/>
          </a:blip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" dur="500"/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703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4" name="Title 3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545" name="TextBox 6"/>
          <p:cNvSpPr/>
          <p:nvPr/>
        </p:nvSpPr>
        <p:spPr>
          <a:xfrm>
            <a:off x="6781680" y="35053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l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6" name="Rectangle 5"/>
          <p:cNvSpPr/>
          <p:nvPr/>
        </p:nvSpPr>
        <p:spPr>
          <a:xfrm>
            <a:off x="228600" y="152280"/>
            <a:ext cx="85345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a flat, low-lying land built up from soil carried downstream by a river and deposited at its mouth?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47" name="Picture 8" descr="C:\Documents and Settings\ISLPT175\My Documents\My Pictures\pdelta.bmp"/>
          <p:cNvPicPr/>
          <p:nvPr/>
        </p:nvPicPr>
        <p:blipFill>
          <a:blip r:embed="rId2"/>
          <a:stretch/>
        </p:blipFill>
        <p:spPr>
          <a:xfrm>
            <a:off x="990720" y="2438280"/>
            <a:ext cx="2743200" cy="313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9c60a">
            <a:alpha val="9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8" name="Title 3" descr=""/>
          <p:cNvPicPr/>
          <p:nvPr/>
        </p:nvPicPr>
        <p:blipFill>
          <a:blip r:embed="rId1"/>
          <a:stretch/>
        </p:blipFill>
        <p:spPr>
          <a:xfrm>
            <a:off x="225360" y="-158760"/>
            <a:ext cx="8467920" cy="158580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5"/>
          <p:cNvSpPr/>
          <p:nvPr/>
        </p:nvSpPr>
        <p:spPr>
          <a:xfrm>
            <a:off x="7243560" y="3733920"/>
            <a:ext cx="115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lacier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50" name="Picture 5" descr="C:\Documents and Settings\ISLPT175\My Documents\My Pictures\glacier.bmp"/>
          <p:cNvPicPr/>
          <p:nvPr/>
        </p:nvPicPr>
        <p:blipFill>
          <a:blip r:embed="rId2"/>
          <a:stretch/>
        </p:blipFill>
        <p:spPr>
          <a:xfrm>
            <a:off x="609480" y="3124080"/>
            <a:ext cx="305604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1" name="Title 3" descr=""/>
          <p:cNvPicPr/>
          <p:nvPr/>
        </p:nvPicPr>
        <p:blipFill>
          <a:blip r:embed="rId1"/>
          <a:stretch/>
        </p:blipFill>
        <p:spPr>
          <a:xfrm>
            <a:off x="73080" y="176040"/>
            <a:ext cx="8010360" cy="1586160"/>
          </a:xfrm>
          <a:prstGeom prst="rect">
            <a:avLst/>
          </a:prstGeom>
          <a:ln w="0">
            <a:noFill/>
          </a:ln>
        </p:spPr>
      </p:pic>
      <p:sp>
        <p:nvSpPr>
          <p:cNvPr id="552" name="TextBox 6"/>
          <p:cNvSpPr/>
          <p:nvPr/>
        </p:nvSpPr>
        <p:spPr>
          <a:xfrm>
            <a:off x="6781680" y="35053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sse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53" name="Picture 5" descr="C:\Documents and Settings\ISLPT175\My Documents\My Pictures\dessert.jpg"/>
          <p:cNvPicPr/>
          <p:nvPr/>
        </p:nvPicPr>
        <p:blipFill>
          <a:blip r:embed="rId2"/>
          <a:stretch/>
        </p:blipFill>
        <p:spPr>
          <a:xfrm>
            <a:off x="304920" y="1828800"/>
            <a:ext cx="3657600" cy="37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1T12:50:16Z</dcterms:created>
  <dc:creator>Barbers Hill ISD</dc:creator>
  <dc:description/>
  <dc:language>en-US</dc:language>
  <cp:lastModifiedBy>BHISD</cp:lastModifiedBy>
  <dcterms:modified xsi:type="dcterms:W3CDTF">2011-09-28T16:24:43Z</dcterms:modified>
  <cp:revision>48</cp:revision>
  <dc:subject/>
  <dc:title>PowerPoint Presentation</dc:title>
</cp:coreProperties>
</file>